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510-DE07-4B30-99AC-E123002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8B9-ECD7-4C5B-8D4D-ACFC9BEB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506-BA9D-4DED-8788-CAA54E6D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F5-9F94-45B7-943B-70B93C44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074-964C-4BB8-9793-380A3418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48C-58B6-4C3F-8063-1EC0BDA9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55EF-1D9A-47FD-9E7D-FB4C424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2AFD-CB18-42E1-8E97-FEBDA186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06D5-78FC-4C94-BC6C-F17DFDDA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056-5470-4608-B724-C9A27274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4C36-DDA0-4916-A1EB-FE8198D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A56-2906-4412-B57C-F9997F54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FAFA-CCE2-4AC2-8032-9B74760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18A-2D7B-4373-A9C7-763B8427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655D-C0EE-49FB-B5B3-7BAE689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7B9C-59C8-45C9-B79C-B1C0C414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C52-C3A5-44AF-B46D-3D0A80A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2997-7015-4283-82C5-C2C4A8B9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BD16-AE56-4BC9-A230-908B8BFA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1AB8-494B-4823-9BF2-BC7DB1E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F932-07DC-463C-9B5C-99187876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D80C-AF74-48FA-83C1-B9A004A1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344-C8B7-49CE-A1C6-99605F6F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A2B2-81B3-48F1-A1C3-5AD0361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EB0C-E730-4C41-AAF5-D2A06997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10F8-F37A-49B1-A348-37089BB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95BB-CED0-4287-AF61-B1D3E81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02AA-6161-4199-945C-9692046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2704-4C09-4BE3-AB12-DA4DB3B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5812-4E70-4365-A619-949DD476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BDFDB-F4AA-4590-88ED-A6494F5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32EC7-CCD9-4679-969D-39983ED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31DB0-D876-4324-B6AD-484FB6A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006-D3BC-4E9F-9BB4-4E1CB80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DEBB8-B4E8-4A1E-B974-158F377D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C9671-C027-41B8-B972-7901D00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F7A1A-4F9A-4011-8861-B84FAF5F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FD53F-33F7-4DB9-806E-CE820E9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0F0ED-CCFE-489B-9344-26BC5F2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4537E-F009-4325-838F-629AC90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A543B-8ACD-45AE-B6A5-5B70BF1A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E6D24-E35E-4BCD-B7E9-4499D828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60B5E-4BDE-458D-8C5C-EF473A3E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D80-511F-4C49-A750-8433E32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AA8-F205-4E9D-9ED3-1E9C2E1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4DA-2D67-41BE-864E-3289E7D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BF8-289E-46ED-AE40-68492FE2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8EA-368D-459E-87DD-9DA2B01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C09D-9084-45F9-9784-470906C0A2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988C-C17C-46E6-A8F7-D1FDE8BB1E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2841-2095-4183-8386-47AA57ADFE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70B-D1BC-4091-9D1E-87ACABCA1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rra Nevada 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09680" y="609480"/>
            <a:ext cx="47149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QUI EN ESP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86680" y="2438280"/>
            <a:ext cx="2857320" cy="2305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457200"/>
            <a:ext cx="746784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er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milia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 soy en el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ción de esquí. Es el AC Palacio De Santa Paula. Es cinco estrella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ción de esquí 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39 por noche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ner un caf’e y restaura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 un televisión en e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a, ver el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ontana y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2590920"/>
            <a:ext cx="259092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048120" y="2819520"/>
            <a:ext cx="2782800" cy="3047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3048120" y="2209680"/>
            <a:ext cx="2743200" cy="600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41360" y="5218200"/>
            <a:ext cx="260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5181480"/>
            <a:ext cx="3048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 todo mi afect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ontana en el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erra Nevad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 estacion de esqui. Usar un telesquí. Esquí de la montañ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Photo"/>
          <p:cNvPicPr/>
          <p:nvPr/>
        </p:nvPicPr>
        <p:blipFill>
          <a:blip r:embed="rId1"/>
          <a:stretch/>
        </p:blipFill>
        <p:spPr>
          <a:xfrm>
            <a:off x="228600" y="4330800"/>
            <a:ext cx="2971800" cy="22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203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69880" y="5859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477120" y="1905120"/>
            <a:ext cx="2403360" cy="3124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42900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057400"/>
            <a:ext cx="266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muy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icil y caen mucho en el nieve. Es frio pero tengo un anorak y los guantos.  Es necesita para esqui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37240" y="53704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152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9040" y="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</a:rPr>
              <a:t>Querido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 famili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32680" y="52182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7680" y="5257800"/>
            <a:ext cx="338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n todo mi cariñ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63416"/>
                </a:solidFill>
                <a:latin typeface="Arial"/>
              </a:rPr>
              <a:t>Querido</a:t>
            </a:r>
            <a:r>
              <a:rPr b="0" lang="en-US" sz="4400" spc="-1" strike="noStrike">
                <a:solidFill>
                  <a:srgbClr val="463416"/>
                </a:solidFill>
                <a:latin typeface="Arial"/>
              </a:rPr>
              <a:t> familia;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ieve es hielo y resbaladiz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4114800" cy="26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089680" y="2855880"/>
            <a:ext cx="33685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ha es necesito  para subir en el montana.  Es frio y nevand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Vi un zor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934320" y="5410080"/>
            <a:ext cx="1904760" cy="1308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90920" y="36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143000"/>
            <a:ext cx="33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40600" y="121860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 subí a una mont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553080" y="609480"/>
            <a:ext cx="2057400" cy="134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7640" y="5486400"/>
            <a:ext cx="320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riñosos salu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Arial"/>
              </a:rPr>
              <a:t>Querido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familia;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i esquiar en el fácil pend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3:12Z</dcterms:created>
  <dc:creator>leeeva</dc:creator>
  <dc:description/>
  <dc:language>en-US</dc:language>
  <cp:lastModifiedBy>leeeva</cp:lastModifiedBy>
  <dcterms:modified xsi:type="dcterms:W3CDTF">2011-11-30T17:05:48Z</dcterms:modified>
  <cp:revision>7</cp:revision>
  <dc:subject/>
  <dc:title>esquiar en España</dc:title>
</cp:coreProperties>
</file>